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C515-E010-4C4C-B4D3-98715E3464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74BA-373E-45C5-A0E8-E867AF6ACB7B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5D56-3E6D-4235-A645-D36F04F2F1F1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8232-C1A8-46C0-B70E-CC50ABB2FD2F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0239-37EA-4F11-99BD-507782C535A4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B862-61B4-42B2-B26D-E8584F5336D6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55F0-E9A5-4AE5-875A-A9EC3D315AD4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DBF5-1F9E-4D49-B74D-93E26A88D818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073-DE1E-4678-9F36-380CFF1E9F69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A7FD-0C9E-4294-9D69-9F54685AC6B1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8533-4691-4ED1-B4E1-537B49051D40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A77-E501-455E-8961-28A158E0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482-481C-4FF9-A4B9-A2988F0A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115-992C-4E35-8CD4-1E4492FF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735-30B5-4402-8199-F9D58A0E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DE17-3BE3-455A-8EBF-05A9614C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CC3F-F168-4497-A775-115854CC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063B-C788-4192-A809-1A2B9FC8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E907-6C4E-49D5-994F-9327FE6A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7BA2-9513-4606-800E-D08BB60C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B88F-5B8D-48AE-B95D-93431A8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DC8D-260E-4957-A65B-46F52799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6E5-4FF0-42F2-9780-80453FB6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DA9B-2905-4973-863F-958E4E29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4075-69B9-4303-AD4D-7DC451A2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4A2-B3E1-473F-858E-12600AA2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B96B-E70E-42AD-8983-042DE388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B4A5-9F07-41F3-881E-42CCC792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3155-9DB5-4363-8185-40EBCE76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E36C-246F-483F-B1B7-13E76511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43E0-C883-485E-9B07-A165A0CE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3B3CA-0261-4CDD-8535-006EACEA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F9B2-86E7-4A6D-87A7-42158811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60C-0E88-4D04-9CE1-83CBC096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5D0A-7BAC-4783-BDA0-862F4549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E0B1-7E01-4980-8DBA-EAFD661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9647A-B898-4205-86AD-63C17742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A4D6-4F47-47CD-84B4-7919206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7E6CB-CAFD-4F5F-ABF7-2186C597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253FF-C369-4D5F-AE5B-19A62F94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3ED44-CE70-488A-AA61-EAE304A5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255E-7BA6-4595-9732-D8D03F2C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94D7D-7E76-4A8A-A97B-C7FB60A9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AE3FB-74FF-4F2F-B8EB-02BC53EA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233-F5DE-424F-9F5D-E3C517C4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331EA-6C6B-439B-A83C-BCC02515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09B7-C8E2-4044-A28F-66F076BA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689F-AB08-4EFC-8602-ADB78406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9760-BF7B-47BC-A1BB-D4A4B542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C8D97-4D53-4A7E-BE51-FC433434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3537-8EC2-4C46-80FA-182F06F7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67DE-BBA6-4833-9D21-51169050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8031-80BF-4A19-9B4C-F7724D6E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315B-19E0-4FF5-B396-1FA700C5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E0579-2A56-444D-8EDD-CBC3C91E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FF7-9E89-467C-A5AC-0D07BAE7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83CCB-909C-4D5F-B129-0ECC1DE4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7095-63C5-4A6D-8FE9-2887B534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76F11-F373-4679-92C0-B0CB6124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36A34-C043-4BCA-B127-BC8629D8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AE818-EEAA-4AFC-8F0C-26FE87B9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1B82-9D26-48BC-96E4-B54F8D1D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B9CD9-3A9B-450A-9B47-770C3DE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A9F8-360E-41ED-8FCB-98D5A7C0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A86D6-B092-46D0-9BFE-E541E88B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3C1E5-7491-4162-8155-CE608C37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C03-5BE1-43A4-A921-9C9DA95A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CFC5-9340-461D-BCD3-992B2FF7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76DB5-2123-4398-AEA8-DA7FD417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E676A-CD10-4320-866B-CB159F3B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5979B-DA26-410E-B500-AD89CDD1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041B6-908B-47C3-AD50-0752DFB3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19C6-1312-4E35-BAB7-251028CE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23B8B-344A-4665-BA18-8F6BA424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0D423-3631-41BF-A41C-FEEC898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8B02-5176-47F4-9245-F23597D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CC475-D7E9-4837-BC2A-469E27C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3A4-B80A-4BDB-8F10-E7C932A7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42829-6440-4DFC-A4C8-85FA79DA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97E52-B646-4BE1-830E-5F300B8F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EEC3-8F68-4D27-AC49-A32518DF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F08-2167-4C00-B765-B58D5D67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9C0-B629-4F8B-8D84-8409E58E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27D7-E131-4D3B-8DD2-4E8215D2FC7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B4E0-16F8-4416-B47D-348716ADFC1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F439-6EB7-4738-8BE2-69E826394FD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E137-6ADA-43E1-AFF5-0B2F133198EC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D9F0-7ECF-460C-9BA5-398BE9C018E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0E6E-6D07-41A9-9D9E-65286157A8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4B93-9307-40E1-88A1-9D50B3A1A0B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76E0-0F3D-425F-B9EB-05F23D5708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62B0-A6F1-44C7-9B21-7350245AE69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3E33-FB1F-4EEC-BE00-5A61EE72634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549C-AEC9-45C6-A164-25F392DE794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314E-2594-4C9C-92CB-3B360F20DD5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7029360"/>
            <a:ext cx="12187080" cy="71640"/>
          </a:xfrm>
          <a:prstGeom prst="rect">
            <a:avLst/>
          </a:prstGeom>
          <a:ln w="0">
            <a:noFill/>
          </a:ln>
        </p:spPr>
      </p:pic>
      <p:sp>
        <p:nvSpPr>
          <p:cNvPr id="261" name="Título 1"/>
          <p:cNvSpPr/>
          <p:nvPr/>
        </p:nvSpPr>
        <p:spPr>
          <a:xfrm>
            <a:off x="627120" y="1646280"/>
            <a:ext cx="109411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a8ef2"/>
                </a:solidFill>
                <a:latin typeface="Calibri"/>
              </a:rPr>
              <a:t>ANÁLISES PRELIMINARES – AEAT 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42852"/>
                </a:solidFill>
                <a:latin typeface="Calibri"/>
              </a:rPr>
              <a:t>Brasília, setembr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tângulo 1"/>
          <p:cNvSpPr/>
          <p:nvPr/>
        </p:nvSpPr>
        <p:spPr>
          <a:xfrm>
            <a:off x="407880" y="2048040"/>
            <a:ext cx="1137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rreção da queda no número de acidentes sem CAT em 2016 quando comparado com 2015 de 9,10% para 6,14%, número próximo à redução de contribuintes empreg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eda de 7,25% das CATs de trajeto emitidas em 2017 quando comparadas com 2016, fenômeno não observado em outros 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982800" y="8161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tângulo 1"/>
          <p:cNvSpPr/>
          <p:nvPr/>
        </p:nvSpPr>
        <p:spPr>
          <a:xfrm>
            <a:off x="407880" y="1557360"/>
            <a:ext cx="113047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cidentes de trajeto tiveram queda relevante em 2017 quando comparados com 2016, fenômeno antes não obser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bilização dos dados ocorrem normalmente no segundo ano após a ocorrência do evento, quando passam a ser mais fidedig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dução em menores proporções na taxa de incidência de acidentes de trabalho em 2016 e 2017 podem ser reflexo dos acidentes não registrados/reconhecidos em virtude da gr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982800" y="733320"/>
            <a:ext cx="103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REFLEX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1" name="CaixaDeTexto 4"/>
          <p:cNvSpPr/>
          <p:nvPr/>
        </p:nvSpPr>
        <p:spPr>
          <a:xfrm>
            <a:off x="816120" y="692280"/>
            <a:ext cx="1065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ubtítulo 2"/>
          <p:cNvSpPr/>
          <p:nvPr/>
        </p:nvSpPr>
        <p:spPr>
          <a:xfrm>
            <a:off x="1295280" y="2276640"/>
            <a:ext cx="98884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ORION SÁVIO SANTOS DE OLIV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Analista Técnico de Polític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orion.oliveir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PAULO CÉSAR ANDRADE ALME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oordenador-Geral do Seguro Contra Acidentes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GSAT/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paulo.aalmeid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EVANDRO CO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oordenador-Geral de Monitoramento de Benefícios por Incapa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GMBI/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evandro.cott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047600" y="868320"/>
            <a:ext cx="103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QUEM É PROTEGIDO PELO SEGURO CONTRA ACIDENTES DE TRABAL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4"/>
          <p:cNvSpPr/>
          <p:nvPr/>
        </p:nvSpPr>
        <p:spPr>
          <a:xfrm>
            <a:off x="550800" y="2478240"/>
            <a:ext cx="1065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mpreg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mpregado Domés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ul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047600" y="620640"/>
            <a:ext cx="103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CIDENTES DE TRABALHO NO BRASIL – 2013 a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1160" y="1197000"/>
          <a:ext cx="10298160" cy="4608360"/>
        </p:xfrm>
        <a:graphic>
          <a:graphicData uri="http://schemas.openxmlformats.org/drawingml/2006/table">
            <a:tbl>
              <a:tblPr/>
              <a:tblGrid>
                <a:gridCol w="1222560"/>
                <a:gridCol w="4070160"/>
                <a:gridCol w="5005440"/>
              </a:tblGrid>
              <a:tr h="65880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cidentes de Trabalho -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Acidentes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5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5f7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5.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.3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7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2.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62% (GREVE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.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66" name="CaixaDeTexto 2"/>
          <p:cNvSpPr/>
          <p:nvPr/>
        </p:nvSpPr>
        <p:spPr>
          <a:xfrm>
            <a:off x="911160" y="585792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3"/>
          <p:cNvSpPr/>
          <p:nvPr/>
        </p:nvSpPr>
        <p:spPr>
          <a:xfrm>
            <a:off x="695160" y="6165720"/>
            <a:ext cx="11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Greve dos administrativos de 07/07/2015 a 25/09/2015 e greve dos peritos médicos de 04/09/2015 a 25/01/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982800" y="733320"/>
            <a:ext cx="10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CONTRIBUINTES DA PREVID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1160" y="1341360"/>
          <a:ext cx="10369440" cy="4896000"/>
        </p:xfrm>
        <a:graphic>
          <a:graphicData uri="http://schemas.openxmlformats.org/drawingml/2006/table">
            <a:tbl>
              <a:tblPr/>
              <a:tblGrid>
                <a:gridCol w="619200"/>
                <a:gridCol w="2154240"/>
                <a:gridCol w="2531880"/>
                <a:gridCol w="2532240"/>
                <a:gridCol w="2531880"/>
              </a:tblGrid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º de contribuintes da Previd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º de contribuintes empreg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837.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687.8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339.9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625.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635.0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656.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52.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624.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095.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250.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</a:tbl>
          </a:graphicData>
        </a:graphic>
      </p:graphicFrame>
      <p:sp>
        <p:nvSpPr>
          <p:cNvPr id="270" name="CaixaDeTexto 3"/>
          <p:cNvSpPr/>
          <p:nvPr/>
        </p:nvSpPr>
        <p:spPr>
          <a:xfrm>
            <a:off x="695160" y="63309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39880" y="804960"/>
            <a:ext cx="103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VARIAÇÃO DA TAXA DE INCIDÊNCIA DE ACIDENTE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ixaDeTexto 3"/>
          <p:cNvSpPr/>
          <p:nvPr/>
        </p:nvSpPr>
        <p:spPr>
          <a:xfrm>
            <a:off x="192240" y="60213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Infologo A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95200" y="1628640"/>
          <a:ext cx="11096640" cy="4440240"/>
        </p:xfrm>
        <a:graphic>
          <a:graphicData uri="http://schemas.openxmlformats.org/drawingml/2006/table">
            <a:tbl>
              <a:tblPr/>
              <a:tblGrid>
                <a:gridCol w="1359000"/>
                <a:gridCol w="4500360"/>
                <a:gridCol w="5237280"/>
              </a:tblGrid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Incidência de Acidentes de Trabalho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,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74" name="CaixaDeTexto 2"/>
          <p:cNvSpPr/>
          <p:nvPr/>
        </p:nvSpPr>
        <p:spPr>
          <a:xfrm>
            <a:off x="192240" y="6359400"/>
            <a:ext cx="111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úmero de novos casos de acidentes do trabalho registrados e não registrados /número médio anual de vínculos *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tângulo 1"/>
          <p:cNvSpPr/>
          <p:nvPr/>
        </p:nvSpPr>
        <p:spPr>
          <a:xfrm>
            <a:off x="334800" y="1712880"/>
            <a:ext cx="1116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-se que o total de acidentes de trabalho em 2017, embora tenha sofrido redução no número absoluto, representa tendência compatível com os anos anteriores, em especial quando o dado é relativizado pelo número de segurados empreg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ouve atualização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s dados de 2016, refletindo nesse ano o resultado do que deixou de ser contabilizado em 2015 em virtude das greves no IN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982800" y="7333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ixaDeTexto 2"/>
          <p:cNvSpPr/>
          <p:nvPr/>
        </p:nvSpPr>
        <p:spPr>
          <a:xfrm>
            <a:off x="479520" y="5877000"/>
            <a:ext cx="1108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EAT 2017, quando publicado, apresenta os dados de 2017 e realiza correção/atualização dos dados de 2016, incorporando as informações que foram inseridas nos bancos de dados após a extração do AEAT 2016, quando então ocorre a estabilização da infor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982800" y="733320"/>
            <a:ext cx="103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ixaDeTexto 1"/>
          <p:cNvSpPr/>
          <p:nvPr/>
        </p:nvSpPr>
        <p:spPr>
          <a:xfrm>
            <a:off x="263520" y="1801800"/>
            <a:ext cx="1137744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siderando a redução do número de contribuintes empregados e a redução histórica no número de acidentes de trabalho, os dados relacionados a 2016 mostram-se coerentes com a série histó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982800" y="733320"/>
            <a:ext cx="10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CIDENTES DE TRABALHO POR TIPO – 2013 a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63520" y="1413000"/>
          <a:ext cx="11593440" cy="4608360"/>
        </p:xfrm>
        <a:graphic>
          <a:graphicData uri="http://schemas.openxmlformats.org/drawingml/2006/table">
            <a:tbl>
              <a:tblPr/>
              <a:tblGrid>
                <a:gridCol w="949320"/>
                <a:gridCol w="1414440"/>
                <a:gridCol w="1433520"/>
                <a:gridCol w="1282680"/>
                <a:gridCol w="1166760"/>
                <a:gridCol w="1292400"/>
                <a:gridCol w="1290600"/>
                <a:gridCol w="1433520"/>
                <a:gridCol w="1330200"/>
              </a:tblGrid>
              <a:tr h="503280">
                <a:tc gridSpan="7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 CAT regist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em CAT</a:t>
                      </a:r>
                      <a:r>
                        <a:rPr b="1" lang="pt-BR" sz="20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í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j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79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.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.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.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.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.6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,5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4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.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5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27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.2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,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.7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82" name="CaixaDeTexto 3"/>
          <p:cNvSpPr/>
          <p:nvPr/>
        </p:nvSpPr>
        <p:spPr>
          <a:xfrm>
            <a:off x="192240" y="59500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ixaDeTexto 2"/>
          <p:cNvSpPr/>
          <p:nvPr/>
        </p:nvSpPr>
        <p:spPr>
          <a:xfrm>
            <a:off x="192240" y="6227640"/>
            <a:ext cx="1185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lui os acidentes identificados sem a emissão de CAT, por meio dos Nexos Téc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EAT 2016 constavam 12.502 CATs de doença para o 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tângulo 1"/>
          <p:cNvSpPr/>
          <p:nvPr/>
        </p:nvSpPr>
        <p:spPr>
          <a:xfrm>
            <a:off x="192240" y="1712880"/>
            <a:ext cx="1159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reção do número de CATs de doenças do trabalho emitidas em 2016 fez com que a redução em relação ao ano de 2015 caísse de 18,74% para 9,48%. Tal fato pode ind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ificuldade na identificação do nexo entre a doença e o trabalho e consequente postergação na emissão da C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CAT somente é emitida após o reconhecimento do nexo entre o agravo e o trabalho pelo IN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CATs por doença sofreram redução elevada em 2017 (30,35%), quando comparadas com 2016, sem explicação específica (como ocorreu em 2016). É necessário aguardar as correções que ocorrerão em 2018 para identificar se há tendência de estabilização dos dados somente no segundo ano após a ocorrência do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982800" y="7333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8-09-24T19:17:35Z</cp:lastPrinted>
  <dcterms:modified xsi:type="dcterms:W3CDTF">2018-09-25T20:22:15Z</dcterms:modified>
  <cp:revision>618</cp:revision>
  <dc:subject/>
  <dc:title>Demografia</dc:title>
</cp:coreProperties>
</file>